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2180-8DE4-40F9-823B-35AE096CB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821F-1ABF-4DB6-952B-2B23D74B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6947-208C-471E-A100-1100F6E8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665-A0DB-4C25-B87F-D7B66372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4C7-C47A-4B32-A419-E4C8D83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1EA-B3C2-40A2-B97E-C6BED2A6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E28-2BC1-48A0-AFF6-2241ABD7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EA5B-E558-4489-8FF0-7C17A700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7005-2B71-48BF-800B-3B13F55B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FA5-E869-4CA0-97EA-A9AA28A3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AF0-ED93-421E-9F46-790D9642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1142-FF39-4362-A661-FF256FA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35C4-C24C-40C6-9A32-6197535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5D6E-0934-4DE8-8CBB-DDAD383A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5E0-3BEC-4D97-A29E-392B12DF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514F-D04E-4505-ADDD-A609F54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759E-E243-45D5-A2DD-F8E70404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4692-939A-4D80-AD3B-573C5562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4BFB-6052-4B0D-8707-D5575871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EA6-35F8-40ED-8375-1C67B461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93A0-AAD8-4AB3-8786-93A64560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2377-7A3F-416D-B89A-49A7158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4DA8-8FF7-4AC7-847A-B792F24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A3E5-555F-4BBA-9A7F-D8938209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618F-3B83-4D57-B020-72908CE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A0B-11FC-4DC1-8505-D8B08ECF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5862-3FBA-441C-959A-472C871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85C1-20F7-447A-A6E3-DD7F79F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C1C4-DFC9-4BB1-AC74-D0359BD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7B03-FA65-4E12-90A0-EDF91CE1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ADDD-34E0-48E8-88B9-6953153E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4DA1-7275-4FAF-9524-10904B63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3234-A90A-4CE1-9EEA-846BB94E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5076-189F-4043-AEB9-49546427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3803-09D0-434E-AECE-7E89EE4A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8793-B1BB-434A-B036-B4FDA001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FDB-426D-408B-AD9E-3C12FFF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E487-2B00-49B2-999C-3C7FBFC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0A5C-F7F7-42DD-B7DF-6E63EDD2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1799-6556-4D9A-B0BF-FA0A5CB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A27D-370B-4413-9B41-B2B706F9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B587-4A66-4D3F-9DB2-AE0226F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6D85-C9CE-4EF9-888C-517D777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FD14-ED8C-46AA-9950-7F2D2C5B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3484-DF60-457A-8A0C-D442C313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0ECC-FD11-4086-B64E-424A9838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4B9-DCD7-4416-BCB1-44D8F279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5CE-5766-4E64-9938-EEE7CA0E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891-655A-421F-B31C-9207C91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D08-1211-4292-88CF-C853713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88D-28D5-4617-85BB-53742BF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6358-20AD-4850-AEA0-24B1BD16B7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6E99-79D1-4B03-8490-EF406481A1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F908-19F1-4C4A-9CA0-8CC3C7BCFC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DFA0-0CA2-49BE-8155-6AC87AED2A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uhk.edu.hk/med/acp/Rec_photo/images/10_jpg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ec0c"/>
                </a:solidFill>
                <a:latin typeface="Arial"/>
              </a:rPr>
              <a:t>14. </a:t>
            </a:r>
            <a:r>
              <a:rPr b="1" lang="sr-RS" sz="5400" spc="-1" strike="noStrike">
                <a:solidFill>
                  <a:srgbClr val="ecec0c"/>
                </a:solidFill>
                <a:latin typeface="Arial"/>
              </a:rPr>
              <a:t>ОНКОГЕНЕТИКА СТАРЕЊЕ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труктурне аберације хромозома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 у малигним ћелијам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еке аберације хромозома су карактеристичне за одрећене типов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анц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п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. Реципрочне транслокациј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Филаделфија х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t 9;2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х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ронична нелимфоцитна (мијелоидна)  леукем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N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Burkitt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ов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лимфом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t 8;14,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; 2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Делециј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) деле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аку х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3 (13q1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ретинобласт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) деле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 крак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х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зoм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1 (11p13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Wilms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ов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тум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. Вирусно порекло канцер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1910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yton Rau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филтрира туморе (саркома) пилића и убризгава их здравим пилићима и добија нове тумор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Раус саркома вирус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RSV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966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yton Rau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Нобелова наград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НК-ДНК 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ДНК 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ћелији канцера никада није про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н вирус већ само његов генетички материја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протовирус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 епизом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енска основа канцер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425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протоонког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онког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гени супресор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гени мутатор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ротоонкоген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едстављају непатолошке форме онкоге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онтролишу ритам ћелијске деоб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одукти поро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когена су специфични протеи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Протоонкоген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ска локализација продуката протоонкогена и њихова биохемијска функција условили су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класифика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отоонкоге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Протоонкогени који кодирају факторе ра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Протоонкогени који кодирају рецепторе за факторе раст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тирозин киназна активност најчешће-екстрацелуларни домен, трансмембрански и интрацелуларн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Протоонкогени чији продукти учествују у преношењу ћелијског сигнала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s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фамилија ге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a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a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 Проду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s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1ras –активан је само када је повезан з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дролизо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p21ras постаје неактив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1196640"/>
            <a:ext cx="78548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Протоонкогени који кодирају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sr-CS" sz="2200" spc="-1" strike="noStrike">
                <a:solidFill>
                  <a:srgbClr val="c00000"/>
                </a:solidFill>
                <a:latin typeface="Arial"/>
              </a:rPr>
              <a:t>једарне протеине 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анскрипциони фактори (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с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yc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ге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. Продукт овог гена је одговоран за прихватање сигнала, када је стигао до једра. Делује директно на ДНК и доводи до експресије гена  одговорних за  репродукцију или диференцијацију ће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МУТАЦИЈЕ ПРОТООНКОГЕНА ИМАЈУ ДОМИНАНТАН ЕФЕКАТ - ДОВОЉНА ЈЕ МУТАЦИЈА ЈЕДНОГ АЛЕЛА!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28000"/>
          </a:bodyPr>
          <a:p>
            <a:pPr marL="207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Онкоге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7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7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7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когени могу настати из протоонкогена и проузроковати канцер. По порекл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гу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7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</a:rPr>
              <a:t>ирусни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 онкоген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ирусни г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Ћ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</a:rPr>
              <a:t>елијски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 онкоге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ни су у самим ћелиј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7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ансформација протоонкогена у онкоген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228240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Структурна промена ген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ији је резултат синтеза измењеног протеина - </a:t>
            </a:r>
            <a:r>
              <a:rPr b="1" i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онкопроте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Промена регулације експресије протоoнкоген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ији је резултат појачана или неадекватна продукција регулатора који су одговорни за ћелијску деоб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јчешће промене протоонкогена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Тачкасте (р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oint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ут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Хромозомске абер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Амплифик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) Поинт мутације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познатији пример поинт мутација протоонкогена је мутација </a:t>
            </a:r>
            <a:r>
              <a:rPr b="1" i="1" lang="sr-Latn-CS" sz="2000" spc="-1" strike="noStrike">
                <a:solidFill>
                  <a:srgbClr val="c00000"/>
                </a:solidFill>
                <a:latin typeface="Arial"/>
              </a:rPr>
              <a:t>r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12p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што за последицу има замену аминокисели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ицин у вал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инт мутаци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ra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дукују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GTP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з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s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ина, тако д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 везан 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TP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тако је стално активи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 мутацију и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90% оболелих о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c00000"/>
                </a:solidFill>
                <a:latin typeface="Arial"/>
              </a:rPr>
              <a:t>аденокарцинома панкреас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50% канцера </a:t>
            </a:r>
            <a:r>
              <a:rPr b="0" lang="sr-CS" sz="2000" spc="-1" strike="noStrike">
                <a:solidFill>
                  <a:srgbClr val="c00000"/>
                </a:solidFill>
                <a:latin typeface="Arial"/>
              </a:rPr>
              <a:t>коло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30% </a:t>
            </a:r>
            <a:r>
              <a:rPr b="0" lang="sr-CS" sz="2000" spc="-1" strike="noStrike">
                <a:solidFill>
                  <a:srgbClr val="c00000"/>
                </a:solidFill>
                <a:latin typeface="Arial"/>
              </a:rPr>
              <a:t>аденокарцинома плућа и мијелоидних леукемија</a:t>
            </a:r>
            <a:r>
              <a:rPr b="0" lang="sr-C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 мутaцијa није пронaђенa код кaнцерa грлића материце, метерице и дој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) Хромозомске структурне аберације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ичан пример хромозомских структурних аберација пронађених у малигним ћелијама су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реципрочне трансло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ронађене у ћелија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urk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-oв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лимф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) Хроничне нелимфоцитне леукемије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570800" cy="32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ко ћелија изгуби контролу ћелијског дељења настаје ћелијска мас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тумор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ромозомске транслокације у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Burk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лимфом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5" name="Picture 4" descr="Burkitov limfom"/>
          <p:cNvPicPr/>
          <p:nvPr/>
        </p:nvPicPr>
        <p:blipFill>
          <a:blip r:embed="rId1"/>
          <a:stretch/>
        </p:blipFill>
        <p:spPr>
          <a:xfrm>
            <a:off x="3419640" y="2205000"/>
            <a:ext cx="5724360" cy="4295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49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анслокације се могу догодити измећу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8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хромозо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анслокацијом се </a:t>
            </a:r>
            <a:r>
              <a:rPr b="1" i="1" lang="sr-RS" sz="22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yc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ји се налази на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q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краку 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хромозома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премешт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22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или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хромоз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активи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) Хронична нелимфоцитна леукемиј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NLL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713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ћелијам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NLL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транслокација се догоди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између 9. и 22. хромозома. Транслоцирани сегмент са хромозома број 9 садржи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ab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место на хромозому број 22 на које се овај сегмент уграђује садржи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bcr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, тако да њ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ховом фузијом на 22. хромозому настаје Филаделфија хромоз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иладелфија хромозом је карактеристичан з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NLL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Trans_9_22"/>
          <p:cNvPicPr/>
          <p:nvPr/>
        </p:nvPicPr>
        <p:blipFill>
          <a:blip r:embed="rId1"/>
          <a:srcRect l="0" t="0" r="0" b="23306"/>
          <a:stretch/>
        </p:blipFill>
        <p:spPr>
          <a:xfrm>
            <a:off x="1187280" y="981000"/>
            <a:ext cx="69566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fig15"/>
          <p:cNvPicPr/>
          <p:nvPr/>
        </p:nvPicPr>
        <p:blipFill>
          <a:blip r:embed="rId1"/>
          <a:stretch/>
        </p:blipFill>
        <p:spPr>
          <a:xfrm>
            <a:off x="1187280" y="1125360"/>
            <a:ext cx="65995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) Амплификација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лификац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множавањ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којим се 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оже произвес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еколико стотина копија протоонкоге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имери амплификације с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убл минутни фрагмен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зависни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ал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рагменти (двојни мали сегмент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хомогено обојени регион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оквиру хромозома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S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DМ</a:t>
            </a:r>
            <a:r>
              <a:rPr b="1" lang="sr-RS" sz="2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HSR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представљају велики број копија одређених ге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пецифичне амплификације гена у малигној ћелији се могу визуализовати применом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 технике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44" name="Picture 5" descr="10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637000"/>
            <a:ext cx="5715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енске мутације специфичне за одређене малигне болести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и тумори  дој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ута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7q 21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3q 12.3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е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и тумори јајн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убитак хетерозиготности тумор-супресорског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C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1q25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ена и мута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е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и тумори проста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ута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PC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q24-2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10920" y="475920"/>
            <a:ext cx="78548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ени супресори - 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тионкоген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1484280"/>
            <a:ext cx="853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нтионкоген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речавају ћелијску дeобу. Најпознатији антионкогени 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јпознатији је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p53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 хром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17p13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Rb</a:t>
            </a:r>
            <a:r>
              <a:rPr b="1" lang="sr-C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рак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лецијом овог региона настаје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рeтинoбласт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WT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 хромозому 11. Мутација овог гена одговорна је за настанак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Wilmsov-o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г тум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NF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м 17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- ос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 имају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неурофиброматозу тип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R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BRCA1</a:t>
            </a:r>
            <a:r>
              <a:rPr b="0" i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BRCA2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имају улогу у развоју фамилијарног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карцинома дој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 чувар генома</a:t>
            </a:r>
            <a:br>
              <a:rPr sz="46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речава улазак оштећене ћелије у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S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фаз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терфазе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уколико не успе у томе, активира механизме самоуништења ћелије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апоптозу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ћелијску програмирану смр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олико је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мутирао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p53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анцерска ћелија је неспособна за апоптозу и то може бити један од узрока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бесмрт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канцерске ћели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културе хетероплоидних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HeLa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3160" y="1557000"/>
            <a:ext cx="78548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утацијом ових гена се повећава стопа спонтаних мутација других гена,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укључујући протоонкоген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гене супресор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и су укључени у процесе репликације и репарације ДН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 утичу директно на малигну трансформациј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2195640" y="476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4. Гени 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Порекло тумора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640" y="2707920"/>
            <a:ext cx="8351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умори има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клонално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моноклонално порекл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, то јест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у од једне ћелије или малог броја нормалних, анцестралних ћелија које пролазе кроз фазу малигне трансформације и стичу низ нових својста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981000"/>
            <a:ext cx="78548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љења која настају услед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мутације гена за репарацију ДН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Ксеродерма пигментозу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таксија телангијектаз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Блумов синдр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Фанкони анем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рактеришу се повећаним ризиком за обољевање од малигних боле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Да ли је довољна једна генска мутација да изазове малигну трансформациј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нас се сматра да су најмање две мутације (за раст и диференцијацију), а вероватно и више њих, потребне да би се нормална ћелија трансформисала у малигну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утац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трајно мења геном, али није довољна да иницира трансформацију –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ИНИЦИЈАЦИЈА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фа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- канцероген стимулише иницирану ћелију-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ПРОМОЦИЈА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процес је реверзибилан и ако се прекине са дејством агенса неће се десити трансформација) - дуг је период латенције (више недеља, месеци или годин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ПРОГРЕС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а је дефинитивно измењен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е може више да се врати у нормално стање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временом постаје малиг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362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а ли је канцер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наследан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 за неке облике се м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же рећ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ао што су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етинобласт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Wilmsov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ум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а ли је канцер заразан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Да ли су промене генома узрок или последица малигне алтерациј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трола и превенција малигних болест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следна предиспозиција за малигне болести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гнитет се јавља на више места код исте особе или на различитим местима код различитих чланова породице, знатно чешће него што би се очекива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Малигни тумори дебелог цр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Ли-Фрауменијев синд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536400" y="835200"/>
            <a:ext cx="7858440" cy="841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Figure 1"/>
          <p:cNvPicPr/>
          <p:nvPr/>
        </p:nvPicPr>
        <p:blipFill>
          <a:blip r:embed="rId2"/>
          <a:srcRect l="0" t="0" r="0" b="38177"/>
          <a:stretch/>
        </p:blipFill>
        <p:spPr>
          <a:xfrm>
            <a:off x="684360" y="2492280"/>
            <a:ext cx="7775280" cy="2449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1908000" y="2565360"/>
            <a:ext cx="576360" cy="287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492360" y="2565360"/>
            <a:ext cx="719280" cy="358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5148360" y="2637000"/>
            <a:ext cx="792000" cy="287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908000" y="5373720"/>
            <a:ext cx="2880000" cy="43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нигни тум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5796000" y="5300640"/>
            <a:ext cx="20890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игни т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7851960" cy="7682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33160" y="2133360"/>
            <a:ext cx="7854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А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аследна боле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Настаје услед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герминативне мутације p5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 би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наслед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 nov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ембриогенези 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) полном ћелијом једног родитељ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е са овим синдромом имају повећан ризик за обољевање од саркома, карцинома дојке или леукемиј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дна подложност честим малигнитетим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73024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лигни тумори дој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лигнитети јајн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лигни тумори штитасте жлезд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венција или рано откривање малигнитета је крајњи циљ скрининга особа код којих постоји ризик за фамилијарни малиг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enign-malignant"/>
          <p:cNvPicPr/>
          <p:nvPr/>
        </p:nvPicPr>
        <p:blipFill>
          <a:blip r:embed="rId1"/>
          <a:stretch/>
        </p:blipFill>
        <p:spPr>
          <a:xfrm>
            <a:off x="3975120" y="692280"/>
            <a:ext cx="5168880" cy="5553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816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умор (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неоплазм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) може бити: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392436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Бениг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доброћудн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умори саморегулатор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злоћудна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 неограниченим расто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тастазира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4790160" y="765000"/>
            <a:ext cx="1249200" cy="45972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ниг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7146000" y="785880"/>
            <a:ext cx="1276560" cy="45972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лиг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516360" y="4724280"/>
            <a:ext cx="1761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уморск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6516360" y="5084640"/>
            <a:ext cx="1873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тромал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чини превенције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крининг (откривање фенотипске експресије генотип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ена начина живота или исхра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дикаментозна терап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филактички хирушки поступц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Arial"/>
              </a:rPr>
              <a:t>СТАРЕЊЕ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3068280"/>
            <a:ext cx="87138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ар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 скуп дегенеративних процеса који настају у функцији времена, зап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иње формирањем зигота, а завршава се смрћу вишећелијског организ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роцеси који се дешавају у току старења с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Губитак воде из ћел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Задржавање токсичних матер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мањивање метаболичких проце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нижавање биолошких функција органа и система орг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мањивање хормонске актив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пршљенским хрскавицама се таложе соли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што смањује покретљивост кичм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рвни судови се сужавају услед склеротичних проце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овећава се инциденца за обољевање најчешће од канцера..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1965. Hayflick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овим експериментима опточиње савремена етапа идеје о старењ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тарење је условљено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унутрашњим механизми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оји ограничавају дужину живо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динке (121 година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овека, за псе око 20 година, жабе око 10 год., вилиног коњица 1 да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е човека имају ограничену дужину живо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до 50 деоба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теломере</a:t>
            </a:r>
            <a:r>
              <a:rPr b="0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Хетероплоидне ћелије живе бесконачно (HeLa, 195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орије о старењу код људи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3026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Мутационе теор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оматске мутације – најчешће су рецесивне, али и доминант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кодоминант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утац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старењу се повећава и експресивност мут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лаби механизам поправке мут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порава с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лијска део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раста број хромозомских аберација (анеуплоидије код жена после 35. годи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липлоидије се повећава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неуплоидије се повећава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руктурне аберације се та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 повећава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лучајне сегрегације хромоз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Теорија скраћивања крајев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Теорија слободних радикал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употреба антиоксиданас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Теорија генетског с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вља питање да ли је брзина старења програмир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? Да ли постоји генетски сат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нас не постоји идеална теорија старења јер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 једна од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остојећи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ориј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ије одговорила на три питања:</a:t>
            </a:r>
            <a:br>
              <a:rPr sz="3600"/>
            </a:br>
            <a:endParaRPr b="0" lang="en-US" sz="2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Како и зашто старимо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Каква је улога процеса старења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а ли на овај процес можемо да утичемо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арактеристике малигне ћелије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еправилна деоба ћелије и неограничен ра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Једра с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мењ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ћи број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пних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уклеолу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омењен метаболизам-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тетишу се нови протеини, а престају да се синтетишу уобичај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површини ћелија се појављују нови антиг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а мења облик и организаци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ња се однос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е и околног тк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Губи се ткивна контро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е су хаотично распор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Губе се карактеристике диференциране ћелије или  престаје диференцијација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3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Малигни тумори се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класификуј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према ткиву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у коме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настају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Сарком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тумори мишићног и везивног ткив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кости, тетиве, хрскавиц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Карцином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тумори епителних ћелиј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(кожа, плућа, дојка, панкреас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Лимфом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анцер лимфоидног тк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Леукеми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 мијеломи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малигне неоплазме леукоци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остоје два основна пута </a:t>
            </a: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астанка канцер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7643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78920" y="2060280"/>
            <a:ext cx="8425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ута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ционо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порекл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нцерогени агенси (хемијски агенси, зрачења.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вирусно порекл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русни онкогени - </a:t>
            </a:r>
            <a:r>
              <a:rPr b="1" i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акутно трансформишући 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серциона активација ћелијских протоонк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1" i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- споро трансформишући вируси</a:t>
            </a:r>
            <a:r>
              <a:rPr b="0" lang="sr-CS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уграђују се  у геном домаћина уз протоонкогене и тиме их активирају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2320" y="1557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овер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1914)</a:t>
            </a:r>
            <a:r>
              <a:rPr b="0" lang="sr-Latn-CS" sz="28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200" y="2852280"/>
            <a:ext cx="7921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 Боверијеу основни узрок појаве рака су “</a:t>
            </a:r>
            <a:r>
              <a:rPr b="1" i="1" lang="sr-RS" sz="2200" spc="-1" strike="noStrike" u="sng">
                <a:solidFill>
                  <a:srgbClr val="000000"/>
                </a:solidFill>
                <a:uFillTx/>
                <a:latin typeface="Arial"/>
              </a:rPr>
              <a:t>сома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”, мутације телесних ћелиј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ије се знало да ли су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хромозомск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берације узрок или последица малигне алтерације ће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малиг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м ћелијам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огу се детектовати и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нумеричке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структурне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берације хромозо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042920" y="1890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 Мутационо порекло канц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умеричке аберациј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K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арцином грлића материце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омене у броју хромозома пре пробоја базалне мембране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cinom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време инвазије тумора-полиплоидије и маркер хромозом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шчезава линија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ћелиј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 у другим облицима канц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огу се детектовати 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триплоидије, тетраплоиди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анеуплоид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Псеудодиплоидиј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sr-C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 појава да малигна ћелија и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хромозома, при чему су се неки од нормалних хромозома изгубили, док се другима број повећа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Ryzen</cp:lastModifiedBy>
  <dcterms:modified xsi:type="dcterms:W3CDTF">2022-01-18T12:17:48Z</dcterms:modified>
  <cp:revision>253</cp:revision>
  <dc:subject/>
  <dc:title>MUTACIJE GENA</dc:title>
</cp:coreProperties>
</file>